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E03E-95F9-46BA-A802-6BA4488F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75DF-82FD-460D-A9DB-0EC2CE42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DBD9-8533-4E1F-970E-43089406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0F3E-D89C-44DA-8451-DDBF97FF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A5BD-6168-40DA-9A44-AB2B1656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C593-CF13-46A2-822B-C970E0DE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6B84-3D8B-42A8-AAA3-D987CA22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6264-591D-4224-959A-0069DC44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E542-544F-46FA-8C58-8A6309D8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CFF8-E23C-4737-9DAE-B0E5D1CC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9465-3893-4CDD-9008-E3E170BA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86ED-48C7-4DC1-8F34-F8EAB40E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0CFF-DD29-4690-84C1-C508F7EB2C4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のある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362320"/>
            <a:ext cx="3276720" cy="3733560"/>
          </a:xfrm>
          <a:custGeom>
            <a:avLst/>
            <a:gdLst>
              <a:gd name="textAreaLeft" fmla="*/ 159840 w 3276720"/>
              <a:gd name="textAreaRight" fmla="*/ 3116880 w 3276720"/>
              <a:gd name="textAreaTop" fmla="*/ 159840 h 3733560"/>
              <a:gd name="textAreaBottom" fmla="*/ 3573720 h 3733560"/>
            </a:gdLst>
            <a:ahLst/>
            <a:rect l="textAreaLeft" t="textAreaTop" r="textAreaRight" b="textAreaBottom"/>
            <a:pathLst>
              <a:path w="21600" h="24611">
                <a:moveTo>
                  <a:pt x="3600" y="0"/>
                </a:moveTo>
                <a:arcTo wR="3600" hR="3600" stAng="16200000" swAng="-5400000"/>
                <a:lnTo>
                  <a:pt x="0" y="21011"/>
                </a:lnTo>
                <a:arcTo wR="3600" hR="3600" stAng="10800000" swAng="-5400000"/>
                <a:lnTo>
                  <a:pt x="18000" y="24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2666880"/>
            <a:ext cx="2666880" cy="16765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51814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4572000"/>
            <a:ext cx="7621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3581280"/>
            <a:ext cx="83844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2895480"/>
            <a:ext cx="5331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38280" y="50288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971800" y="40384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657600" y="33523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96216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200400" y="4800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29200" y="365760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ide_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457200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side_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無しの場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39840" y="3716280"/>
            <a:ext cx="2286000" cy="19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44760" y="4021200"/>
            <a:ext cx="16761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077920" y="4402080"/>
            <a:ext cx="608040" cy="608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211640" y="3716280"/>
            <a:ext cx="2286000" cy="19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16560" y="4021200"/>
            <a:ext cx="16761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049720" y="4402080"/>
            <a:ext cx="608040" cy="608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687760" y="47070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39840" y="5850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このアトムが変更　→　この膜のロックが必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2382840" y="50115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973760" y="53924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47920" y="2133720"/>
            <a:ext cx="33526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アトム・リンクの扱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2362320"/>
            <a:ext cx="21337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_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2971800"/>
            <a:ext cx="30477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3581280"/>
            <a:ext cx="41907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(30bit 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4419720"/>
            <a:ext cx="41907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tr (to next freen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2362320"/>
            <a:ext cx="1143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2362320"/>
            <a:ext cx="152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419720"/>
            <a:ext cx="3049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362320"/>
            <a:ext cx="10666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2971800"/>
            <a:ext cx="3049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2971800"/>
            <a:ext cx="1143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3581280"/>
            <a:ext cx="3049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5105520"/>
            <a:ext cx="41907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tr (to at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5105520"/>
            <a:ext cx="3049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96160" y="2438280"/>
            <a:ext cx="13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アトム情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81040" y="304812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リンク（リンク型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09120" y="365760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リンク（整数型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02840" y="4495680"/>
            <a:ext cx="28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空きノード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17840" y="518148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アトムへの参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1905120"/>
            <a:ext cx="1295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膜の扱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4191120"/>
            <a:ext cx="3886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配列で確保し、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(1byte)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管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2666880"/>
            <a:ext cx="9144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2666880"/>
            <a:ext cx="9144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2666880"/>
            <a:ext cx="9144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2666880"/>
            <a:ext cx="9144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3276720"/>
            <a:ext cx="1828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297180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3962520"/>
            <a:ext cx="53316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3962520"/>
            <a:ext cx="5335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49528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4952880"/>
            <a:ext cx="533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79096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5181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5334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91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4343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400800" y="35053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934320" y="259092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7480" y="449568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486040" y="54864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54864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93920" y="2727360"/>
            <a:ext cx="38088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55240" y="21938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タスク膜ごとにこの構造を保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8120" y="272736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03400" y="3870360"/>
            <a:ext cx="228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03400" y="40989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4327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03400" y="45561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03400" y="47847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65520" y="3718080"/>
            <a:ext cx="3048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056040" y="387036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522520" y="38700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76240" y="4937040"/>
            <a:ext cx="8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ck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522520" y="3489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03400" y="333684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6400" y="37180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37180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08520" y="37180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9400" y="37180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70640" y="37180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51520" y="37180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32400" y="37180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65520" y="4479840"/>
            <a:ext cx="3048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46400" y="44798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44798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8520" y="44798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89400" y="44798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0640" y="44798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51520" y="44798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32400" y="447984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56040" y="41752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/>
          <p:nvPr/>
        </p:nvCxnSpPr>
        <p:spPr>
          <a:xfrm flipH="1" rot="16200000">
            <a:off x="5417280" y="4251960"/>
            <a:ext cx="2160" cy="762840"/>
          </a:xfrm>
          <a:prstGeom prst="curvedConnector5">
            <a:avLst>
              <a:gd name="adj1" fmla="val -28800000"/>
              <a:gd name="adj2" fmla="val 50000"/>
              <a:gd name="adj3" fmla="val -288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/>
          <p:nvPr/>
        </p:nvCxnSpPr>
        <p:spPr>
          <a:xfrm flipH="1" rot="16200000">
            <a:off x="5036400" y="3566160"/>
            <a:ext cx="2160" cy="762480"/>
          </a:xfrm>
          <a:prstGeom prst="curvedConnector5">
            <a:avLst>
              <a:gd name="adj1" fmla="val -28800000"/>
              <a:gd name="adj2" fmla="val 49976"/>
              <a:gd name="adj3" fmla="val -288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/>
          <p:nvPr/>
        </p:nvCxnSpPr>
        <p:spPr>
          <a:xfrm flipH="1" rot="16200000">
            <a:off x="5988600" y="3375720"/>
            <a:ext cx="2160" cy="1143720"/>
          </a:xfrm>
          <a:prstGeom prst="curvedConnector5">
            <a:avLst>
              <a:gd name="adj1" fmla="val -25100000"/>
              <a:gd name="adj2" fmla="val 50000"/>
              <a:gd name="adj3" fmla="val -25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/>
          <p:nvPr/>
        </p:nvCxnSpPr>
        <p:spPr>
          <a:xfrm flipH="1" rot="16200000">
            <a:off x="4464720" y="4061520"/>
            <a:ext cx="2160" cy="1143720"/>
          </a:xfrm>
          <a:prstGeom prst="curvedConnector5">
            <a:avLst>
              <a:gd name="adj1" fmla="val -25100000"/>
              <a:gd name="adj2" fmla="val 50000"/>
              <a:gd name="adj3" fmla="val -25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3056040" y="34131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27640" y="341316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27640" y="447984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46400" y="3718080"/>
            <a:ext cx="38124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65520" y="371808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70640" y="371808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8520" y="371808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51520" y="3718080"/>
            <a:ext cx="3808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89400" y="447984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46400" y="4479840"/>
            <a:ext cx="38124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9240" y="4632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80120" y="4632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03400" y="295596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e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51320" y="516564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8600" y="516564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d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83000" y="562284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_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9560" y="310824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_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894120" y="3870360"/>
            <a:ext cx="2666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アトムの保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画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38862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ture(get)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取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次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d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生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x(PX, PY, NX, NY, R, G, B)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で表現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(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端要素のリンクには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を入れ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18288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8168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18288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6748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96080" y="18288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00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25146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53080" y="22860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16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10280" y="25146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38880" y="22860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2057400"/>
            <a:ext cx="12189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22860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674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25146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24480" y="32004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32004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29718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96080" y="32004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36576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24280" y="4114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43434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24680" y="22860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5328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24680" y="29718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5328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924680" y="36576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5328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24680" y="43434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53280" y="4114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24480" y="45720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45720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96080" y="45720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1008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6748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2971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29718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8168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38880" y="29718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6748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1008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588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24480" y="38862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53080" y="36576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168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10280" y="38862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238880" y="36576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48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96080" y="38862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4114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6728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3434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4114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38880" y="43434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67480" y="4114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システム構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066680" y="1905120"/>
            <a:ext cx="1828800" cy="3429000"/>
            <a:chOff x="1066680" y="1905120"/>
            <a:chExt cx="1828800" cy="3429000"/>
          </a:xfrm>
        </p:grpSpPr>
        <p:sp>
          <p:nvSpPr>
            <p:cNvPr id="229" name=""/>
            <p:cNvSpPr/>
            <p:nvPr/>
          </p:nvSpPr>
          <p:spPr>
            <a:xfrm>
              <a:off x="1295280" y="4496040"/>
              <a:ext cx="1371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　　　　実行アトムスタッ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5280" y="3733920"/>
              <a:ext cx="13716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ルー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66680" y="2438640"/>
              <a:ext cx="1828800" cy="274320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2743200"/>
                <a:gd name="textAreaBottom" fmla="*/ 2653920 h 2743200"/>
              </a:gdLst>
              <a:ahLst/>
              <a:rect l="textAreaLeft" t="textAreaTop" r="textAreaRight" b="textAreaBottom"/>
              <a:pathLst>
                <a:path w="21600" h="32398">
                  <a:moveTo>
                    <a:pt x="3600" y="0"/>
                  </a:moveTo>
                  <a:arcTo wR="3600" hR="3600" stAng="16200000" swAng="-5400000"/>
                  <a:lnTo>
                    <a:pt x="0" y="28798"/>
                  </a:lnTo>
                  <a:arcTo wR="3600" hR="3600" stAng="10800000" swAng="-5400000"/>
                  <a:lnTo>
                    <a:pt x="18000" y="323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95280" y="5029200"/>
              <a:ext cx="13716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　　　生成待ちスタッ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36840" y="19051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タスク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23880" y="27432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61960" y="28195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28800" y="29718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33360" y="34290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90560" y="32004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057400" y="297180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81080" y="312444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90560" y="304812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124080" y="1905120"/>
            <a:ext cx="1828800" cy="3429000"/>
            <a:chOff x="3124080" y="1905120"/>
            <a:chExt cx="1828800" cy="3429000"/>
          </a:xfrm>
        </p:grpSpPr>
        <p:sp>
          <p:nvSpPr>
            <p:cNvPr id="243" name=""/>
            <p:cNvSpPr/>
            <p:nvPr/>
          </p:nvSpPr>
          <p:spPr>
            <a:xfrm>
              <a:off x="3352680" y="4496040"/>
              <a:ext cx="1371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　　　　実行アトムスタッ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352680" y="3733920"/>
              <a:ext cx="13716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ルー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24080" y="2438640"/>
              <a:ext cx="1828800" cy="274320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2743200"/>
                <a:gd name="textAreaBottom" fmla="*/ 2653920 h 2743200"/>
              </a:gdLst>
              <a:ahLst/>
              <a:rect l="textAreaLeft" t="textAreaTop" r="textAreaRight" b="textAreaBottom"/>
              <a:pathLst>
                <a:path w="21600" h="32398">
                  <a:moveTo>
                    <a:pt x="3600" y="0"/>
                  </a:moveTo>
                  <a:arcTo wR="3600" hR="3600" stAng="16200000" swAng="-5400000"/>
                  <a:lnTo>
                    <a:pt x="0" y="28798"/>
                  </a:lnTo>
                  <a:arcTo wR="3600" hR="3600" stAng="10800000" swAng="-5400000"/>
                  <a:lnTo>
                    <a:pt x="18000" y="323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52680" y="5029200"/>
              <a:ext cx="13716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　　　生成待ちスタッ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94240" y="19051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タスク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81280" y="27432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19360" y="28195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86200" y="29718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90760" y="34290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47960" y="32004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114800" y="297180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38480" y="312444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47960" y="304812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181480" y="1905120"/>
            <a:ext cx="1828800" cy="3429000"/>
            <a:chOff x="5181480" y="1905120"/>
            <a:chExt cx="1828800" cy="3429000"/>
          </a:xfrm>
        </p:grpSpPr>
        <p:sp>
          <p:nvSpPr>
            <p:cNvPr id="257" name=""/>
            <p:cNvSpPr/>
            <p:nvPr/>
          </p:nvSpPr>
          <p:spPr>
            <a:xfrm>
              <a:off x="5410080" y="4496040"/>
              <a:ext cx="137160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　　　　実行アトムスタッ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10080" y="3733920"/>
              <a:ext cx="13716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ルー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81480" y="2438640"/>
              <a:ext cx="1828800" cy="274320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2743200"/>
                <a:gd name="textAreaBottom" fmla="*/ 2653920 h 2743200"/>
              </a:gdLst>
              <a:ahLst/>
              <a:rect l="textAreaLeft" t="textAreaTop" r="textAreaRight" b="textAreaBottom"/>
              <a:pathLst>
                <a:path w="21600" h="32398">
                  <a:moveTo>
                    <a:pt x="3600" y="0"/>
                  </a:moveTo>
                  <a:arcTo wR="3600" hR="3600" stAng="16200000" swAng="-5400000"/>
                  <a:lnTo>
                    <a:pt x="0" y="28798"/>
                  </a:lnTo>
                  <a:arcTo wR="3600" hR="3600" stAng="10800000" swAng="-5400000"/>
                  <a:lnTo>
                    <a:pt x="18000" y="323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10080" y="5029200"/>
              <a:ext cx="13716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</a:rPr>
                <a:t>　　　生成待ちスタック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51640" y="19051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タスク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38680" y="27432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76760" y="28195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943600" y="29718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48160" y="34290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05360" y="32004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172200" y="2971800"/>
              <a:ext cx="30456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95880" y="312444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05360" y="304812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990720" y="54100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タスク膜ごとに１つの実行アトムスタック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生成待ちスタックをも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781680" y="342900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91520" y="320040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171840" y="6019920"/>
            <a:ext cx="1143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14840" y="571500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2819520"/>
            <a:ext cx="3812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33720" y="2819520"/>
            <a:ext cx="3808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14600" y="2819520"/>
            <a:ext cx="3808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95480" y="2819520"/>
            <a:ext cx="3812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76720" y="2819520"/>
            <a:ext cx="3808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2819520"/>
            <a:ext cx="3808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2819520"/>
            <a:ext cx="38124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71600" y="2819520"/>
            <a:ext cx="3808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92200" y="3429000"/>
            <a:ext cx="22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mp 0 1 3 4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4114800"/>
            <a:ext cx="380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52480" y="4114800"/>
            <a:ext cx="3812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4114800"/>
            <a:ext cx="380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14600" y="4114800"/>
            <a:ext cx="380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95480" y="4114800"/>
            <a:ext cx="3812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76720" y="4114800"/>
            <a:ext cx="380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57600" y="4114800"/>
            <a:ext cx="380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038480" y="4114800"/>
            <a:ext cx="3812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90400" y="4749840"/>
            <a:ext cx="22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mp 0 3 4 6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5410080"/>
            <a:ext cx="380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752480" y="5410080"/>
            <a:ext cx="3812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33720" y="5410080"/>
            <a:ext cx="380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14600" y="5410080"/>
            <a:ext cx="380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95480" y="5410080"/>
            <a:ext cx="3812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76720" y="5410080"/>
            <a:ext cx="380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57600" y="5410080"/>
            <a:ext cx="380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38480" y="5410080"/>
            <a:ext cx="3812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00200" y="4648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980720" y="46483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285640" y="46483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742840" y="4648320"/>
            <a:ext cx="10666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124080" y="4648320"/>
            <a:ext cx="10670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00200" y="3352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81080" y="3352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286000" y="335268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2666520" y="3352680"/>
            <a:ext cx="3812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048120" y="335268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90720" y="2819520"/>
            <a:ext cx="380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4114800"/>
            <a:ext cx="380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90720" y="5410080"/>
            <a:ext cx="380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回路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14560" y="5867280"/>
            <a:ext cx="50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電圧増幅度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91+10)/10 = 10.1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非反転増幅回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00200" y="3657600"/>
            <a:ext cx="1371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35D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71800" y="41911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718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86400" y="3809880"/>
            <a:ext cx="1738440" cy="1371600"/>
          </a:xfrm>
          <a:prstGeom prst="rightArrow">
            <a:avLst>
              <a:gd name="adj1" fmla="val 100000"/>
              <a:gd name="adj2" fmla="val 1267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324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76720" y="44956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57913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40080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400800" y="2819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28195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276720" y="28191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238880" y="4495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75438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019560" y="32767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480060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00600" y="3276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80024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257800" y="3123720"/>
            <a:ext cx="761760" cy="304920"/>
            <a:chOff x="5257800" y="3123720"/>
            <a:chExt cx="761760" cy="304920"/>
          </a:xfrm>
        </p:grpSpPr>
        <p:sp>
          <p:nvSpPr>
            <p:cNvPr id="335" name=""/>
            <p:cNvSpPr/>
            <p:nvPr/>
          </p:nvSpPr>
          <p:spPr>
            <a:xfrm flipV="1">
              <a:off x="5257800" y="3124080"/>
              <a:ext cx="63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5448240" y="3123720"/>
              <a:ext cx="126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5321160" y="3123720"/>
              <a:ext cx="126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702400" y="3123720"/>
              <a:ext cx="126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5574600" y="3123720"/>
              <a:ext cx="127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5829120" y="3123720"/>
              <a:ext cx="126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956200" y="3276360"/>
              <a:ext cx="633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4647960" y="4952880"/>
            <a:ext cx="304920" cy="609480"/>
            <a:chOff x="4647960" y="4952880"/>
            <a:chExt cx="304920" cy="609480"/>
          </a:xfrm>
        </p:grpSpPr>
        <p:sp>
          <p:nvSpPr>
            <p:cNvPr id="343" name=""/>
            <p:cNvSpPr/>
            <p:nvPr/>
          </p:nvSpPr>
          <p:spPr>
            <a:xfrm>
              <a:off x="4800600" y="4952880"/>
              <a:ext cx="152280" cy="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648320" y="5003640"/>
              <a:ext cx="30456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4648320" y="5105160"/>
              <a:ext cx="30456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4648320" y="5207040"/>
              <a:ext cx="30456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4648320" y="5308560"/>
              <a:ext cx="30456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4648320" y="5410080"/>
              <a:ext cx="30456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 flipV="1">
              <a:off x="4647960" y="5511960"/>
              <a:ext cx="15228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480060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8128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812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290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29000" y="4876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654360" y="434340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μ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94840" y="51055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20360" y="335268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1k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16560" y="2819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09720" y="53341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239960" y="4495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82440" y="3906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83880" y="4572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入力データの変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4920" y="3917880"/>
            <a:ext cx="12189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09680" y="3079800"/>
            <a:ext cx="12956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0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3994200"/>
            <a:ext cx="12956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1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09680" y="4908600"/>
            <a:ext cx="12956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2.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952880" y="3079800"/>
            <a:ext cx="12956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0.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52880" y="3994200"/>
            <a:ext cx="12956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1.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952880" y="4908600"/>
            <a:ext cx="12956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2.t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23880" y="4299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1523880" y="33847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23880" y="44514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05320" y="3384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505320" y="4299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5213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95680" y="3384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95680" y="4299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95680" y="5213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96680" y="528948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タスク毎に分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2360" y="5670720"/>
            <a:ext cx="30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mntal.jar –d | transl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中間コードに変換し、それを改変し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v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テキスト形式に落と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48520" y="3384720"/>
            <a:ext cx="7617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010280" y="39178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48520" y="4299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6248520" y="445104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04920" y="2286000"/>
            <a:ext cx="1676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late.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70600" y="190512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アト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情報ファイ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81080" y="25146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952880" y="2286000"/>
            <a:ext cx="12956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.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91120" y="25146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43400" y="25146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03960" y="1136520"/>
            <a:ext cx="2838240" cy="2288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m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・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一意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を振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　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to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区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出力解釈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　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&gt;atom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名変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使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3840" y="1523880"/>
            <a:ext cx="17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登録済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5790960" y="16765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07732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441120" y="510552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バイナリに変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471520" y="3787920"/>
            <a:ext cx="74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1880" y="3657600"/>
            <a:ext cx="99072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05-02-11T06:32:15Z</dcterms:modified>
  <cp:revision>8</cp:revision>
  <dc:subject/>
  <dc:title>PowerPoint Presentation</dc:title>
</cp:coreProperties>
</file>