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DB97-5B81-408E-AE6F-E2FBAB56D46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制御は特別なアトムを用いて行な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いろいろなバイナリで変換してい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mntal.j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版処理系）をコンパイルに利用してい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主にその出力結果の整形を行なってい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gwi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画面を表示してみせる。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eye, run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両方で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02C4-3D32-4AF3-B842-BF690F65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14E-A94D-4C17-BCC5-B0A9FB0D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394-59D6-4EF7-A9BA-C10499B2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8084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7732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436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8084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7732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B670-8DAD-4C0D-A652-215F54E3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8342-086F-439F-9CFB-6F8FA90C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34D5-AA33-4A7F-9521-F5D93A4E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9E63-9F24-41F2-AEE0-9491DA1D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8AB4-140C-4624-82F0-3AAF363C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7927-3996-4EAB-9586-53327630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58560" y="259920"/>
            <a:ext cx="77216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4D1F-DA1A-4DC9-BCD6-CA721847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7121-BCCC-431E-BC41-9B8A2032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57D-02A9-4E2A-B127-F9844CD9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31B0-D891-4F2C-A060-2D43A024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3AB2-326A-4D08-ABD1-280B753F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1376-A7EF-471E-9277-741DBD68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6F5F-5762-48A7-A00F-EE2470A9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084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7732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436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8084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7732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EEB4-1863-4A3E-9162-48D5CBFB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1DA-4566-495E-A8AB-6B22B148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C8F-6875-4991-8699-B4E73BA1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224-7801-4E9A-B990-8207C890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58560" y="259920"/>
            <a:ext cx="77216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D29-E90D-4CA9-8894-7AB7CC89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0DE3-1897-490D-9D95-A54A64B6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EF2-CACD-43A1-8482-7CFB87EE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309-21D0-4E40-8836-EC702F12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2800" y="585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25480" y="585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66640" y="1008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36720" y="1008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9349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7320" y="477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2682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C092-FA72-4A4F-87E0-B6149E59A250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5770-207F-4437-9E9D-E4A28D6A2CC6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小規模制御系向け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MNtal</a:t>
            </a:r>
            <a:br>
              <a:rPr sz="4400"/>
            </a:b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処理系デモ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77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早稲田大学　上田研究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矢島伸吾　上田和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2005/3/9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PL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6059-5FD3-4D7F-BDCC-26260C7FC0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サンプル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：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m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温度計：アナログセンサ入力と画面表示の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2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に温度センサが接続されてい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2971800"/>
            <a:ext cx="8382240" cy="373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(c(84, c(101, c(109, c(112, c(58, n)))))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og2(timer(25)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og2(X1), analog2(X2), analog2(X3), analog2(X4), buf(B) :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(X1), int(X2), int(X3), int(X4), int(X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 = (X1 + X2 + X3 + X4) / 4 | data(X), buf(Y), putstr(B, 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 = putstr(c(A, Z1)) :- int(A) | Z = c(A, putstr(Z1)), putchar(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 = putstr(n) :- Z = n, n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, data(X) :- int(X), int(X1), int(X2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1 = X / 25, X2 = ((X * 10) / 25) mod 10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int(X1), putchar(46), putint(X2), putchar(10)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08000" y="2743200"/>
            <a:ext cx="188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rmo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CA23-CAEB-42F0-97CB-35C012716C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.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温度計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46B-AC4A-4556-B596-B6A1875EAC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マの使い方と仕組み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955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（最初）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(timer(10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mse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0m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(11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m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(110), analog(112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00m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(110), analog(112), analog(10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割り込みハンドラで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sec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毎に時間を計る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→　閾値を超えていたらアトム生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84F8-1515-4617-BD0D-B6E94E643D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画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38862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cture(get)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で取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次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id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生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x(PX, PY, NX, NY, R, G, B)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で表現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端要素のリンクには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入れ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386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18288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10280" y="18288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96080" y="18288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20574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20574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25146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22860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1680" y="20574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25146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38880" y="22860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2057400"/>
            <a:ext cx="121896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22860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20574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25146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24480" y="32004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10280" y="32004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29718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32004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242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36576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42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43434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24680" y="22860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532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29718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5328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24680" y="36576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532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24680" y="43434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532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45720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10280" y="45720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45720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1008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6748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27432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6728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5880" y="27432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29718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81680" y="27432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38880" y="29718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27432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080" y="34290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34290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3886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553080" y="36576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81680" y="34290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3886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38880" y="36576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67480" y="34290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6080" y="3886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10080" y="41148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43434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1148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3434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41148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6A1-C310-4E7C-AD72-05D8355034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サンプル４：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dc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赤いものに向かって動く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プログラム：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76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ほとんどが画像処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アトムを画素リンク間に割り込ませ、値を取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C91-CABD-4089-8064-32E1A41305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4.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赤いものに向かって動く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CD2D-6874-44B8-A18E-59782704E6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mntal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システム構成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27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側実行ファイル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mntal.h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側実行用シェルスクリプトとバイナ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yeconv.sh runeye.sh runpc.sh, bin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ディレクトリをコピ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環境変数設定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, LMNEYE, LMNJ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では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ygwin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上で動作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3/4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公開　上田研究室矢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P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よ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L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可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3B1-4D87-43CA-831C-719E9047BA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予備スライ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274-364A-412B-8F37-A407971155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システムアトム一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059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生成型システムアト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0 ~ analog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_in4 ~ dig_in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dleft, quad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その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in, $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248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コマンド型システムアト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r, timer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rki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motor, rightmo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tint, putch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_out0 ~ dig_out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_ou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o7 ~ servo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dleft(right)_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cture_re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DD2F-80F5-4E37-B705-3377FC7516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実行ムービ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C04-D90F-46CD-BB7A-6015AE4CF9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内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の流れの解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デ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サンプルプログラム＆デモムービー数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645A-7BFC-4120-8FBB-4DCF81C2BB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展開したカメラ画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3657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25909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62320" y="47242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36576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25909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4724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3657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33920" y="32004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47242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67080" y="3581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733560" y="35053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885840" y="3505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62520" y="373392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718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7180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810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029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5760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668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6252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6000" y="28195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このアトムだ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通常領域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42280" y="2001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他は別口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38680" y="32004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32004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62920" y="3200400"/>
            <a:ext cx="533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722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93432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100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960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43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4674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674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74320" y="434340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通常アトムを割り込ませ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そこを起点にルール適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全画素にルール適用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試みなくてい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E07-E1A0-41FD-8400-0071C65467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実行の流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27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側ランタイムを転送・実行してお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プログラムのコンパイ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yeconv.sh program[.lmn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に転送→実行→実行結果受信→表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uneye.sh program[.tal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C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上でも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unpc.sh program[.tal]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で実行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410080"/>
            <a:ext cx="1600200" cy="1143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5638680"/>
            <a:ext cx="1371600" cy="762120"/>
          </a:xfrm>
          <a:prstGeom prst="rightArrow">
            <a:avLst>
              <a:gd name="adj1" fmla="val 50000"/>
              <a:gd name="adj2" fmla="val 4499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yeco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5410080"/>
            <a:ext cx="1752480" cy="1143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中間コー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5562720"/>
            <a:ext cx="1523880" cy="838080"/>
          </a:xfrm>
          <a:prstGeom prst="rightArrow">
            <a:avLst>
              <a:gd name="adj1" fmla="val 50000"/>
              <a:gd name="adj2" fmla="val 4545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4419720"/>
            <a:ext cx="2133720" cy="2209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80280" y="4191120"/>
            <a:ext cx="1162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ye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4876920"/>
            <a:ext cx="1828800" cy="1600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ntal.h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D25-10A4-4197-A372-6538CB3093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中間コードの変換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04920" y="1371600"/>
            <a:ext cx="472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           [1, 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atom    [1, 0, a_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ef       [2, 1, 0, 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           [2, b_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ump           [L100, [0], [1, 2], []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           [3, 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         [( a(X) b(X) :- c 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queueatom    [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queueatom    [2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atom     [1, 0, a_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atom     [2, 0, b_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atom     [3, 0, c_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queueatom    [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atom       [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atom       [2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ed        [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410080" y="1371240"/>
            <a:ext cx="3468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4 1 0 655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2 1 0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0 2 655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0 1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0 2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1 3 0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5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5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0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3276720"/>
            <a:ext cx="838080" cy="761760"/>
          </a:xfrm>
          <a:prstGeom prst="rightArrow">
            <a:avLst>
              <a:gd name="adj1" fmla="val 50000"/>
              <a:gd name="adj2" fmla="val 2750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5486400"/>
            <a:ext cx="6098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34600" y="6043680"/>
            <a:ext cx="20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へ転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5335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5335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24680" y="5335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762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90720" y="425520"/>
            <a:ext cx="4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BF7-82A7-4E5F-9D12-DB3DEC770A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力データの生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@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yecon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3911760"/>
            <a:ext cx="12189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30733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0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39877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1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49021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2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30733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0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9877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1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9021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2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42926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295280" y="3377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44492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3378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429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207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3378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429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5207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8080" y="528336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タスク毎に分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51360" y="5664240"/>
            <a:ext cx="435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mntal.j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d | trans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中間コードに変換し、それを改変し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テキスト形式に落とす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処理系利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337824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3911760"/>
            <a:ext cx="1067040" cy="761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429264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019920" y="444456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2279520"/>
            <a:ext cx="16761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late.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42000" y="189864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アト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情報ファイ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25081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2279520"/>
            <a:ext cx="12956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.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880" y="2508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2508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25081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75360" y="1289160"/>
            <a:ext cx="2838240" cy="2288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m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一意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振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to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区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出力解釈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&gt;ato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名変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使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240" y="1517760"/>
            <a:ext cx="17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登録済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562360" y="16700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433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12520" y="50990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バイナリに変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242920" y="3781440"/>
            <a:ext cx="74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53280" y="3651120"/>
            <a:ext cx="990720" cy="1447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B98-5665-4D51-8F22-9B0098F817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" y="5410080"/>
            <a:ext cx="8686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_1(c_3(1,c_3(2,c_3(3,c_3(4,c_3(5,n_1)))))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518148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実行結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サンプル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：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7100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ノーマル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プログラムの実行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2895480"/>
            <a:ext cx="8686800" cy="2057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end(c(1,c(2,c(3,n))),c(4,c(5,n)),resul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end(X,Y,Z), n(X)      :- Y=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end(X,Y,Z), c(A,X1,X) :- c(A,Z1,Z), append(X1,Y,Z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259092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ppend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502-D2CB-4179-AD7A-2597D0D767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サンプル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：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風上に向かって進む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2895480"/>
            <a:ext cx="8382240" cy="3353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dleft_reset, quadleft(timer(10)), analog3(timer(10)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dleft(X) :- int(X), int(Y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 = (((X + 1000100) mod 200) / 2) - 50 | wind(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d(Y) :- int(Y), int(VL), int(VR), VL = 50 + Y, VR = 50 - Y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ftmotor(VL), rightmotor(V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og3(X) :- int(X), X &gt; 500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, analog3(timerkill(10)), quadleft(timerkill(10)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og3(X) :- int(X), X =&lt; 500 |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:- leftmotor(0), rightmotor(0).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90880" y="2666880"/>
            <a:ext cx="151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ind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068-F5A8-401E-86DB-FEC2AC6223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風上に向かって動く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DD5-B0CD-4A21-996F-9D9103ECEF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実行用機体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1" name="eyeyoko" descr=""/>
          <p:cNvPicPr/>
          <p:nvPr/>
        </p:nvPicPr>
        <p:blipFill>
          <a:blip r:embed="rId1"/>
          <a:stretch/>
        </p:blipFill>
        <p:spPr>
          <a:xfrm>
            <a:off x="0" y="160020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82" name="eyeue" descr=""/>
          <p:cNvPicPr/>
          <p:nvPr/>
        </p:nvPicPr>
        <p:blipFill>
          <a:blip r:embed="rId2"/>
          <a:stretch/>
        </p:blipFill>
        <p:spPr>
          <a:xfrm>
            <a:off x="4724280" y="354348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925160" y="1676520"/>
            <a:ext cx="415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距離セン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カメラ　　　　　　　モータ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352320" y="1981080"/>
            <a:ext cx="16765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657600" y="281952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55800" y="5057640"/>
            <a:ext cx="472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ロータリーエンコー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風向計として利用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　　　　　　　　　温度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219320" y="3809880"/>
            <a:ext cx="759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191120" y="5334120"/>
            <a:ext cx="10666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32767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039-54BE-400B-B9E3-01397634EE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</cp:lastModifiedBy>
  <dcterms:modified xsi:type="dcterms:W3CDTF">2005-03-10T11:09:06Z</dcterms:modified>
  <cp:revision>108</cp:revision>
  <dc:subject/>
  <dc:title>PowerPoint Presentation</dc:title>
</cp:coreProperties>
</file>