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1600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EA5B-4FCC-460B-80BF-F2261A2BB6A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なくせるので、本質的にはリアルタイム向き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問題は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at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これ以外は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(1)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可能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ato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(1)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やるには複雑なデータ構造が必要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or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毎、膜毎のアトム管理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本処理系のようなアトム生成による方法では、センサ情報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アトムグループ）＋付加情報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アトムグループ）で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少なくとも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アトムグループがルールに含まれることが多いため､必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ato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は使われ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ato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使わない別方式を考えるか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ato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の実行時間を予測する方法が必要であ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これの前に、全体の実行の流れのスライドが欲しい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bo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上で走らせたランタイムに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MNtal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プログラムをコンパイルしたもの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シリアル経由で送っ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その入力データの生成は図のような流れで行なう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基本的に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処理系のコンパイル出力を利用し、それ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bo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送れる形式に再変換す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今までの処理系とどういう関係にある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何行書いた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制御を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MNtal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かいたらどう良かった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B812-10C0-433A-AA0E-5BF033DA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4360" y="39808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5951-BDF6-43B9-B83B-5DB87DC6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2264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3950-A690-4B9A-B675-4ACCB853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8084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7732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436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8084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7732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800-6120-4ABF-8880-DA5798D7E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80A3-16EF-44E3-B7D3-4D050849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5A06-A1CC-4694-90D9-D9F867CC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C9E0-3088-45FE-AEB7-7C10AD40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E961-45CF-4B8A-9E20-8F2C903E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EFEF-1805-42AC-B08B-355FE92C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58560" y="259920"/>
            <a:ext cx="772164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F869-94D2-4296-AD7D-A5298371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B1A2-67E6-4639-B503-160FB8DF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6B5F-3943-4208-BEC1-0AC5C10E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2264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AE1F-AA8A-40CD-9469-9200397D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6BA5-F853-4A73-9839-C70DA6B6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4360" y="39808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4725-87B4-4EA2-B41B-B0B8B28D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2264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D2E2-A606-40E9-8345-7559F526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084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7732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436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48084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7732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BC7E-1DBD-4A9D-90E1-8B1006E0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62AE-679C-4328-B6F2-D338F0B4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D6A6-43DC-4A95-AE45-4685ECA5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21D1-EFE2-466F-A5EE-B67A86BD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58560" y="259920"/>
            <a:ext cx="772164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431E-C46D-4D10-86FE-C4C441DC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E56E-A05F-44B1-B0A1-CBAB29A7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2264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E586-EBDD-4465-9DAA-60810C63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7DD3-5970-43B7-97CA-4CEC45EA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2800" y="585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25480" y="585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66640" y="1008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36720" y="10080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9349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7320" y="477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126828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F536-CA38-45FB-8168-76354FC4069B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99E4-1148-439F-B374-67EA8A119016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小規模制御系向け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MNtal</a:t>
            </a:r>
            <a:br>
              <a:rPr sz="4400"/>
            </a:b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処理系の設計と実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771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早稲田大学　上田研究室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矢島伸吾　上田和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2005/3/9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PL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C91E-B541-4F11-85F5-5612C22F9B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デモ：風上に向かって走る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895320"/>
            <a:ext cx="9144000" cy="596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57E-9A1A-4139-9FB8-E41DD5F3E8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実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yebot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制御できる処理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3600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行（ランタイム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500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行　変換部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100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行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省メモリ設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制御以外は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でも実行可能（デバッグ用途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mntal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プログラムのコンパイル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→　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版処理系を最大限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処理系の吐いた中間コードを利用、再変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BF4F-DA13-4871-BB37-C104D3535A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まとめと今後の予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1447920"/>
            <a:ext cx="3810240" cy="1676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制御、周期タス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並列タスク、優先処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記述方式提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2280" y="3581280"/>
            <a:ext cx="3276720" cy="2057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ッドラインの指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高度な優先度指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（タイマ以外の）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イベント処理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86400" y="3581280"/>
            <a:ext cx="3200400" cy="1600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静的な型づ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最適化コンパイ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67480" y="1143000"/>
            <a:ext cx="1034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研究成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01960" y="3276720"/>
            <a:ext cx="1247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今後の研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604200" y="3276720"/>
            <a:ext cx="1034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関連研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86200" y="5105520"/>
            <a:ext cx="106668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19320" y="5943600"/>
            <a:ext cx="64008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Ntal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よるリアルタイム制御の実現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B252-41DA-46D3-9C62-108B8FF715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7D87-CEF1-4D8F-8664-6E57960B4A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26B6-70F5-4112-B48C-6076950ACD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予備スライ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B8ED-AB7C-46B4-A8FF-085B83CD4F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中間言語の変換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-304920" y="1371600"/>
            <a:ext cx="472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           [1, 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atom    [1, 0, a_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ef       [2, 1, 0, 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           [2, b_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ump           [L100, [0], [1, 2], []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           [3, 4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         [( a(X) b(X) :- c 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queueatom    [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queueatom    [2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atom     [1, 0, a_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atom     [2, 0, b_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atom     [3, 0, c_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queueatom    [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atom       [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atom       [2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ed        [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410080" y="1371240"/>
            <a:ext cx="3468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4 1 0 655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2 1 0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20 2 655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2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30 1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30 2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31 3 0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35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35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20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4419720" y="3276720"/>
            <a:ext cx="838080" cy="761760"/>
          </a:xfrm>
          <a:prstGeom prst="rightArrow">
            <a:avLst>
              <a:gd name="adj1" fmla="val 50000"/>
              <a:gd name="adj2" fmla="val 2750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5486400"/>
            <a:ext cx="6098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46200" y="6043680"/>
            <a:ext cx="36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バイナリ化し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yebot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へ転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63AC-38F9-4303-B73E-051E8192F3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省メモリデータ構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93200" y="1447920"/>
            <a:ext cx="8650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処理系）アトム、リンク、膜、ルールはオブジェク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ビットの有効活用により、アトムを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ity+1 word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で表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必要なメモリ：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894040" y="3633840"/>
            <a:ext cx="6162480" cy="3074400"/>
            <a:chOff x="2894040" y="3633840"/>
            <a:chExt cx="6162480" cy="3074400"/>
          </a:xfrm>
        </p:grpSpPr>
        <p:sp>
          <p:nvSpPr>
            <p:cNvPr id="311" name=""/>
            <p:cNvSpPr/>
            <p:nvPr/>
          </p:nvSpPr>
          <p:spPr>
            <a:xfrm>
              <a:off x="3857400" y="3816360"/>
              <a:ext cx="2827440" cy="36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57760" y="3999240"/>
              <a:ext cx="1798560" cy="48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tom_id: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57400" y="4486320"/>
              <a:ext cx="257040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: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94040" y="4973760"/>
              <a:ext cx="353376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a(30bit i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94040" y="5643720"/>
              <a:ext cx="353376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tr (to next freenod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94040" y="3999240"/>
              <a:ext cx="963360" cy="48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m: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56320" y="3999240"/>
              <a:ext cx="128520" cy="48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427800" y="5643720"/>
              <a:ext cx="25704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57400" y="3999240"/>
              <a:ext cx="900360" cy="48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ity: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27800" y="4486320"/>
              <a:ext cx="25704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94040" y="4486320"/>
              <a:ext cx="96336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os: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27800" y="4973760"/>
              <a:ext cx="25704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4040" y="6191280"/>
              <a:ext cx="353376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tr (to ato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27800" y="6191280"/>
              <a:ext cx="25704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969240" y="405936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: 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アトム情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954120" y="454680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: 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リンク（リンク型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982200" y="5034240"/>
              <a:ext cx="187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: 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リンク（整数型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00400" y="5704200"/>
              <a:ext cx="225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: 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空きノード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st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091280" y="6248520"/>
              <a:ext cx="169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: 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アトムへの参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57760" y="3633840"/>
              <a:ext cx="10922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n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52280" y="4419720"/>
            <a:ext cx="2438640" cy="1143000"/>
          </a:xfrm>
          <a:prstGeom prst="wedgeRoundRectCallout">
            <a:avLst>
              <a:gd name="adj1" fmla="val 62564"/>
              <a:gd name="adj2" fmla="val 19861"/>
              <a:gd name="adj3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整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領域に格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ポインタタグ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2280" y="5715000"/>
            <a:ext cx="2438640" cy="1066680"/>
          </a:xfrm>
          <a:prstGeom prst="wedgeRoundRectCallout">
            <a:avLst>
              <a:gd name="adj1" fmla="val 62435"/>
              <a:gd name="adj2" fmla="val -29912"/>
              <a:gd name="adj3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空きノード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リストで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で判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2280" y="3733920"/>
            <a:ext cx="2438640" cy="457200"/>
          </a:xfrm>
          <a:prstGeom prst="wedgeRoundRectCallout">
            <a:avLst>
              <a:gd name="adj1" fmla="val 61328"/>
              <a:gd name="adj2" fmla="val 136458"/>
              <a:gd name="adj3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アドレスは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3200400"/>
            <a:ext cx="5410440" cy="457200"/>
          </a:xfrm>
          <a:prstGeom prst="wedgeRoundRectCallout">
            <a:avLst>
              <a:gd name="adj1" fmla="val 6046"/>
              <a:gd name="adj2" fmla="val 122569"/>
              <a:gd name="adj3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所属膜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o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情報を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d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に格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91320" y="3200400"/>
            <a:ext cx="2971800" cy="457200"/>
          </a:xfrm>
          <a:prstGeom prst="wedgeRoundRectCallout">
            <a:avLst>
              <a:gd name="adj1" fmla="val -37018"/>
              <a:gd name="adj2" fmla="val 122222"/>
              <a:gd name="adj3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名を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で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25146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47920" y="2743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52480" y="25146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A0D3-5331-4901-95E5-930E878418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リアルタイムとの関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459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リアルタイム＝イベントから予定時間内に決められた処理が行え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（システムアトムのユーザ定義を含めれば）一連のルール適用の優先処理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リアルタイム処理を行うために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より複雑な優先度・デッドラインの設定と、スケジューリング機構、ルールの適用時間の計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atom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命令の実行時間予測、もしく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atom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を用いないルール適用方式を考え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数々の問題の中で、優先処理の一方式を提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01B5-8B84-4138-8B38-25CC61ED93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システムアトム一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4059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生成型システムアト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0 ~ analog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_in4 ~ dig_in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dleft, quad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その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in, $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248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コマンド型システムアト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r, timer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rki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ftmotor, rightmo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tint, putch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_out0 ~ dig_out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_ou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o7 ~ servo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dleft(right)_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cture_rem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46AA-7F64-4E0F-8D1D-72A5F4ACFF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5029200"/>
            <a:ext cx="8001000" cy="16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プログラミング言語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M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561560" y="1692360"/>
            <a:ext cx="3716280" cy="825480"/>
            <a:chOff x="4561560" y="1692360"/>
            <a:chExt cx="3716280" cy="825480"/>
          </a:xfrm>
        </p:grpSpPr>
        <p:sp>
          <p:nvSpPr>
            <p:cNvPr id="111" name=""/>
            <p:cNvSpPr/>
            <p:nvPr/>
          </p:nvSpPr>
          <p:spPr>
            <a:xfrm>
              <a:off x="4561560" y="1692360"/>
              <a:ext cx="3716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アトム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　　と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リンク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　　　からな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グラフ構造が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膜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　　　 で階層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95600" y="1768680"/>
              <a:ext cx="304560" cy="304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6667200" y="1768680"/>
              <a:ext cx="456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14920" y="2149560"/>
              <a:ext cx="576000" cy="3603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011200" y="2666880"/>
            <a:ext cx="2680200" cy="1191240"/>
            <a:chOff x="5011200" y="2666880"/>
            <a:chExt cx="2680200" cy="1191240"/>
          </a:xfrm>
        </p:grpSpPr>
        <p:sp>
          <p:nvSpPr>
            <p:cNvPr id="116" name=""/>
            <p:cNvSpPr/>
            <p:nvPr/>
          </p:nvSpPr>
          <p:spPr>
            <a:xfrm>
              <a:off x="5011200" y="2666880"/>
              <a:ext cx="268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ルール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　膜内の、</a:t>
              </a:r>
              <a:r>
                <a:rPr b="0" lang="ja-JP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左辺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と同じ構造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　</a:t>
              </a:r>
              <a:r>
                <a:rPr b="0" lang="ja-JP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右辺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の形に書き換える規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16360" y="2743200"/>
              <a:ext cx="152424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左辺 </a:t>
              </a: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:- </a:t>
              </a: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右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04920" y="1600200"/>
            <a:ext cx="3962160" cy="2408400"/>
            <a:chOff x="304920" y="1600200"/>
            <a:chExt cx="3962160" cy="2408400"/>
          </a:xfrm>
        </p:grpSpPr>
        <p:sp>
          <p:nvSpPr>
            <p:cNvPr id="119" name=""/>
            <p:cNvSpPr/>
            <p:nvPr/>
          </p:nvSpPr>
          <p:spPr>
            <a:xfrm>
              <a:off x="304920" y="1600200"/>
              <a:ext cx="3962160" cy="240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1360" y="1736640"/>
              <a:ext cx="2049120" cy="12981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58880" y="1736640"/>
              <a:ext cx="1502640" cy="19814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24640" y="1896120"/>
              <a:ext cx="932040" cy="7286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1360" y="3240000"/>
              <a:ext cx="1776240" cy="614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: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1040" y="1941480"/>
              <a:ext cx="27324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97880" y="1873440"/>
              <a:ext cx="272880" cy="272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51040" y="2556360"/>
              <a:ext cx="1161360" cy="34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: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19440" y="2624760"/>
              <a:ext cx="204840" cy="204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124280" y="272484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02720" y="2624760"/>
              <a:ext cx="204840" cy="204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807200" y="272484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37320" y="2146680"/>
              <a:ext cx="27288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47360" y="2146680"/>
              <a:ext cx="27288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95680" y="2761560"/>
              <a:ext cx="27324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44360" y="2215080"/>
              <a:ext cx="27324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7600" y="2966400"/>
              <a:ext cx="27288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124640" y="2009880"/>
              <a:ext cx="27324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217600" y="2283120"/>
              <a:ext cx="8197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0760" y="2078280"/>
              <a:ext cx="34164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17600" y="2419920"/>
              <a:ext cx="546120" cy="4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900160" y="2419920"/>
              <a:ext cx="204840" cy="4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490120" y="2966400"/>
              <a:ext cx="20484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00520" y="3171600"/>
              <a:ext cx="819720" cy="34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: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68920" y="3240000"/>
              <a:ext cx="204840" cy="204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47360" y="3240000"/>
              <a:ext cx="204840" cy="204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10200" y="2761560"/>
              <a:ext cx="27324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52200" y="2761560"/>
              <a:ext cx="27288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54040" y="3376440"/>
              <a:ext cx="27324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54040" y="3240000"/>
              <a:ext cx="6840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65920" y="3308400"/>
              <a:ext cx="682920" cy="4777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34320" y="3444840"/>
              <a:ext cx="204840" cy="204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07560" y="3413520"/>
              <a:ext cx="272880" cy="273240"/>
            </a:xfrm>
            <a:custGeom>
              <a:avLst/>
              <a:gdLst>
                <a:gd name="textAreaLeft" fmla="*/ 13320 w 272880"/>
                <a:gd name="textAreaRight" fmla="*/ 259560 w 272880"/>
                <a:gd name="textAreaTop" fmla="*/ 13320 h 273240"/>
                <a:gd name="textAreaBottom" fmla="*/ 259920 h 273240"/>
              </a:gdLst>
              <a:ahLst/>
              <a:rect l="textAreaLeft" t="textAreaTop" r="textAreaRight" b="textAreaBottom"/>
              <a:pathLst>
                <a:path w="21600" h="21628">
                  <a:moveTo>
                    <a:pt x="3600" y="0"/>
                  </a:moveTo>
                  <a:arcTo wR="3600" hR="3600" stAng="16200000" swAng="-5400000"/>
                  <a:lnTo>
                    <a:pt x="0" y="18028"/>
                  </a:lnTo>
                  <a:arcTo wR="3600" hR="3600" stAng="10800000" swAng="-5400000"/>
                  <a:lnTo>
                    <a:pt x="18000" y="216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$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9760" y="3308400"/>
              <a:ext cx="682920" cy="4777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8160" y="3444840"/>
              <a:ext cx="204840" cy="204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51040" y="3413520"/>
              <a:ext cx="273240" cy="2732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$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97880" y="2215080"/>
              <a:ext cx="27288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34320" y="2146680"/>
              <a:ext cx="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49200" y="2488320"/>
              <a:ext cx="204840" cy="5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585800" y="444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523880" y="5791320"/>
            <a:ext cx="5410080" cy="609120"/>
            <a:chOff x="1523880" y="5791320"/>
            <a:chExt cx="5410080" cy="609120"/>
          </a:xfrm>
        </p:grpSpPr>
        <p:sp>
          <p:nvSpPr>
            <p:cNvPr id="160" name=""/>
            <p:cNvSpPr/>
            <p:nvPr/>
          </p:nvSpPr>
          <p:spPr>
            <a:xfrm>
              <a:off x="3327120" y="5791320"/>
              <a:ext cx="1717200" cy="609120"/>
            </a:xfrm>
            <a:prstGeom prst="leftRightArrow">
              <a:avLst>
                <a:gd name="adj1" fmla="val 70241"/>
                <a:gd name="adj2" fmla="val 42522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計算環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23880" y="5791320"/>
              <a:ext cx="1803240" cy="60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Tahoma"/>
                </a:rPr>
                <a:t>組込・分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44680" y="5791320"/>
              <a:ext cx="1889280" cy="60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Tahoma"/>
                </a:rPr>
                <a:t>超広域分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066560" y="51814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多様な計算環境を統一的に扱う（スケーラブル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87600" y="406224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 u="sng">
                <a:solidFill>
                  <a:srgbClr val="333399"/>
                </a:solidFill>
                <a:uFillTx/>
                <a:latin typeface="Tahoma"/>
              </a:rPr>
              <a:t>階層グラフ構造の書き換え＝計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4724280"/>
            <a:ext cx="1295640" cy="533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目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AC27-7B5D-41A4-9C97-74D2DD8953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力データの生成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76320" y="3911760"/>
            <a:ext cx="12189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81080" y="30733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0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81080" y="39877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1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81080" y="49021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2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724280" y="30733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0.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24280" y="39877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1.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24280" y="49021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2.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95280" y="42926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1295280" y="3377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95280" y="444492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76720" y="3378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76720" y="429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76720" y="5207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267080" y="3378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267080" y="429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5207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8080" y="528336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タスク毎に分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51360" y="5664240"/>
            <a:ext cx="435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mntal.j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d | trans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中間コードに変換し、それを改変し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v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テキスト形式に落とす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処理系利用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19920" y="337824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81680" y="3911760"/>
            <a:ext cx="1067040" cy="761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19920" y="429264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019920" y="444456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320" y="2279520"/>
            <a:ext cx="16761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late.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2000" y="189864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アト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情報ファイ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52480" y="25081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279520"/>
            <a:ext cx="129564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.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09880" y="2508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2508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14800" y="25081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75360" y="1130400"/>
            <a:ext cx="2838240" cy="2288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m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・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一意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振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to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区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出力解釈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&gt;ato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名変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使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5240" y="1517760"/>
            <a:ext cx="17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登録済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5562360" y="16700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848720" y="433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212520" y="50990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バイナリに変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242920" y="3781440"/>
            <a:ext cx="74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153280" y="3651120"/>
            <a:ext cx="990720" cy="14479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02E1-92A6-42F0-9FA1-E459E04BE0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まと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628640"/>
            <a:ext cx="8610840" cy="48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本研究の成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Ntal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よる周期タスクや制御の記述方式の提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マ、センサ入力、カメラ画像、モータ出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周期タスク並列動作と優先処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yebot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を制御できる処理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MNtal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実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変換部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言語、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1100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処理系の出力するコードを再解釈、変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ランタイム部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+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0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静的プログラム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: 5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モリ効率のよいデータ構造保持機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2EB4-2012-4553-B4C0-58835FEF78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今後の予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520" y="1628640"/>
            <a:ext cx="84582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タイマ以外のイベントの補足・処理機能の追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ボタンが押された、メッセージを受信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より高度な優先度とデッドラインの指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一連処理の優先実行は、システムアトムのユーザ定義機能を実装すれば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言語制限や制御表現の見直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膜の有効性、アトム生成以外の制御表現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この研究を元に、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MNtal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と制御やリアルタイム処理との関係について考えていきた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8BE3-78DC-461E-9C0F-06685476EB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処理の優先実行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7100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ルールの優先適用 → スタックの使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1523880" y="2209680"/>
            <a:ext cx="2895840" cy="350532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505320"/>
              <a:gd name="textAreaBottom" fmla="*/ 3364200 h 3505320"/>
            </a:gdLst>
            <a:ahLst/>
            <a:rect l="textAreaLeft" t="textAreaTop" r="textAreaRight" b="textAreaBottom"/>
            <a:pathLst>
              <a:path w="21600" h="26146">
                <a:moveTo>
                  <a:pt x="3600" y="0"/>
                </a:moveTo>
                <a:arcTo wR="3600" hR="3600" stAng="16200000" swAng="-5400000"/>
                <a:lnTo>
                  <a:pt x="0" y="22546"/>
                </a:lnTo>
                <a:arcTo wR="3600" hR="3600" stAng="10800000" swAng="-5400000"/>
                <a:lnTo>
                  <a:pt x="18000" y="261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752480" y="5029200"/>
            <a:ext cx="24386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生成待ちスタ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52480" y="4267080"/>
            <a:ext cx="243864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アトムスタ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13372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02040" y="46483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09680" y="3276720"/>
            <a:ext cx="1905120" cy="609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ータ構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828800" y="2362320"/>
            <a:ext cx="914400" cy="6858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38280" y="30481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38080" y="2819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生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81080" y="2971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49400" y="38098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19320" y="5943600"/>
            <a:ext cx="1676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" y="3581280"/>
            <a:ext cx="1066680" cy="20574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057400"/>
              <a:gd name="textAreaBottom" fmla="*/ 2005560 h 2057400"/>
            </a:gdLst>
            <a:ahLst/>
            <a:rect l="textAreaLeft" t="textAreaTop" r="textAreaRight" b="textAreaBottom"/>
            <a:pathLst>
              <a:path w="21600" h="41655">
                <a:moveTo>
                  <a:pt x="3600" y="0"/>
                </a:moveTo>
                <a:arcTo wR="3600" hR="3600" stAng="16200000" swAng="-5400000"/>
                <a:lnTo>
                  <a:pt x="0" y="38055"/>
                </a:lnTo>
                <a:arcTo wR="3600" hR="3600" stAng="10800000" swAng="-5400000"/>
                <a:lnTo>
                  <a:pt x="18000" y="416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他タスク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19320" y="5181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905120" y="5333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90160" y="5486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登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20" y="4952880"/>
            <a:ext cx="914400" cy="5335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52880" y="2209680"/>
            <a:ext cx="350532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生成されたアト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スタックにつま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52880" y="3429000"/>
            <a:ext cx="358164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そのアトムを含むルー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リストとして保持）を適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629400" y="3124080"/>
            <a:ext cx="30492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952880" y="4800600"/>
            <a:ext cx="3962520" cy="1600200"/>
          </a:xfrm>
          <a:prstGeom prst="wedgeRoundRectCallout">
            <a:avLst>
              <a:gd name="adj1" fmla="val -69152"/>
              <a:gd name="adj2" fmla="val -24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他タスクやタイマから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アトム生成要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生成待ちスタック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自タスクで処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569D-95E9-4F22-9E25-1BDE683FDD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191120" y="5562720"/>
            <a:ext cx="3809880" cy="114300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MNtal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と命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MNtal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研究の現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1523880"/>
            <a:ext cx="2819520" cy="4572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ータ構造の型づ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2133720"/>
            <a:ext cx="2819520" cy="4572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作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3657600"/>
            <a:ext cx="4191120" cy="1371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処理系の分散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・計算ノードの膜による表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・ルールによる通信の記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361960" y="2057400"/>
            <a:ext cx="205740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2057400"/>
            <a:ext cx="19047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419720" y="1752120"/>
            <a:ext cx="19047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2057400"/>
            <a:ext cx="213336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1371600"/>
            <a:ext cx="2667240" cy="1371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処理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05320" y="2895480"/>
            <a:ext cx="146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大規模への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57200" y="2895480"/>
            <a:ext cx="146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小規模への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67360" y="3581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ff0000"/>
                </a:solidFill>
                <a:latin typeface="Tahoma"/>
              </a:rPr>
              <a:t>研究されていない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114800"/>
            <a:ext cx="914400" cy="533520"/>
          </a:xfrm>
          <a:prstGeom prst="down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4876920"/>
            <a:ext cx="4648320" cy="1752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組込み制御のため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MNtal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処理系の実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4648320"/>
            <a:ext cx="228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研究テー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3C76-04D0-4759-86FB-B6DA29C0A2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小規模制御系向け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M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72640" y="3809520"/>
            <a:ext cx="827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れらの問題の解決方法の模索、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方式提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Ntal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組み込み分野への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適応性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解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今後の議論の礎となる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実働環境の提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1905120"/>
            <a:ext cx="4495680" cy="1828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利用可能なメモリが少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制御対象があ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イベントへの即時対応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1600200"/>
            <a:ext cx="342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組み込み機器の特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2514600"/>
            <a:ext cx="609840" cy="68580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15000" y="2133720"/>
            <a:ext cx="3048120" cy="14475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れらを考慮し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処理系を実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4114800"/>
            <a:ext cx="68580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目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4400" y="5638680"/>
            <a:ext cx="670572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本研究では、組み込み機器とし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ロボット制御システ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yebot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を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B7EB-688F-4819-AE25-9C85FFDAA2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ロボット制御システム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yebo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1055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大容量のメモ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様々な入出力インターフェー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ライブラリによる制御記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処理系実装に適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MK3-top-sm" descr=""/>
          <p:cNvPicPr/>
          <p:nvPr/>
        </p:nvPicPr>
        <p:blipFill>
          <a:blip r:embed="rId1"/>
          <a:stretch/>
        </p:blipFill>
        <p:spPr>
          <a:xfrm>
            <a:off x="7302600" y="1371600"/>
            <a:ext cx="1765080" cy="2362320"/>
          </a:xfrm>
          <a:prstGeom prst="rect">
            <a:avLst/>
          </a:prstGeom>
          <a:ln w="0">
            <a:noFill/>
          </a:ln>
        </p:spPr>
      </p:pic>
      <p:pic>
        <p:nvPicPr>
          <p:cNvPr id="193" name="family-sm" descr=""/>
          <p:cNvPicPr/>
          <p:nvPr/>
        </p:nvPicPr>
        <p:blipFill>
          <a:blip r:embed="rId2"/>
          <a:stretch/>
        </p:blipFill>
        <p:spPr>
          <a:xfrm>
            <a:off x="5410080" y="1371600"/>
            <a:ext cx="1805040" cy="23623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486400" y="3886200"/>
            <a:ext cx="3505320" cy="2819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yeb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2KB ROM 1MB 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2bitCPU (68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各種コントロー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o, motor, sens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無線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シリアル通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カメラ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2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t, 60*8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4343400"/>
            <a:ext cx="1066680" cy="8380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ソー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4343400"/>
            <a:ext cx="914400" cy="8380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5867280"/>
            <a:ext cx="13716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yebot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バイナ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5181480"/>
            <a:ext cx="3045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1980720" y="5181480"/>
            <a:ext cx="3049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43080" y="52578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c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4038480"/>
            <a:ext cx="2743200" cy="281952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819520"/>
              <a:gd name="textAreaBottom" fmla="*/ 2685600 h 2819520"/>
            </a:gdLst>
            <a:ahLst/>
            <a:rect l="textAreaLeft" t="textAreaTop" r="textAreaRight" b="textAreaBottom"/>
            <a:pathLst>
              <a:path w="21600" h="22201">
                <a:moveTo>
                  <a:pt x="3600" y="0"/>
                </a:moveTo>
                <a:arcTo wR="3600" hR="3600" stAng="16200000" swAng="-5400000"/>
                <a:lnTo>
                  <a:pt x="0" y="18601"/>
                </a:lnTo>
                <a:arcTo wR="3600" hR="3600" stAng="10800000" swAng="-5400000"/>
                <a:lnTo>
                  <a:pt x="18000" y="222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46880" y="3757680"/>
            <a:ext cx="1209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5715000"/>
            <a:ext cx="1143000" cy="9144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ye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62485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21360" y="5715000"/>
            <a:ext cx="1415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ial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通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5E3C-8632-4DFF-B12F-DC04E5C01D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言語の制限・記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743200" y="1523520"/>
            <a:ext cx="6400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タスク膜を１個以上定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中にかけるも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アトム、リンク、膜によるデータ構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ル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プロセス文脈は引数なし、線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整数はガードで扱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タスク膜直下にのみルール記述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ルール適用処理の簡素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各タスクのルール適用を平等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並列タスクの擬似表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209680"/>
            <a:ext cx="2057400" cy="289584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895840"/>
              <a:gd name="textAreaBottom" fmla="*/ 2795400 h 2895840"/>
            </a:gdLst>
            <a:ahLst/>
            <a:rect l="textAreaLeft" t="textAreaTop" r="textAreaRight" b="textAreaBottom"/>
            <a:pathLst>
              <a:path w="21600" h="30401">
                <a:moveTo>
                  <a:pt x="3600" y="0"/>
                </a:moveTo>
                <a:arcTo wR="3600" hR="3600" stAng="16200000" swAng="-5400000"/>
                <a:lnTo>
                  <a:pt x="0" y="26801"/>
                </a:lnTo>
                <a:arcTo wR="3600" hR="3600" stAng="10800000" swAng="-5400000"/>
                <a:lnTo>
                  <a:pt x="18000" y="30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4419720"/>
            <a:ext cx="16002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ルー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2438280"/>
            <a:ext cx="1143000" cy="121932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219320"/>
              <a:gd name="textAreaBottom" fmla="*/ 1163520 h 1219320"/>
            </a:gdLst>
            <a:ahLst/>
            <a:rect l="textAreaLeft" t="textAreaTop" r="textAreaRight" b="textAreaBottom"/>
            <a:pathLst>
              <a:path w="21600" h="23042">
                <a:moveTo>
                  <a:pt x="3600" y="0"/>
                </a:moveTo>
                <a:arcTo wR="3600" hR="3600" stAng="16200000" swAng="-5400000"/>
                <a:lnTo>
                  <a:pt x="0" y="19442"/>
                </a:lnTo>
                <a:arcTo wR="3600" hR="3600" stAng="10800000" swAng="-5400000"/>
                <a:lnTo>
                  <a:pt x="18000" y="230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38098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38098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31240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26668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143000" y="3505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76520" y="34290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81080" y="29718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03320" y="5181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スク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F72D-5FDD-4F2B-81E9-F1E9843913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62120" y="4876920"/>
            <a:ext cx="754380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制御記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5073480"/>
            <a:ext cx="14479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ft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19520" y="507348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5302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88560" y="4921200"/>
            <a:ext cx="4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: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4572000"/>
            <a:ext cx="140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即時出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38480" y="5029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左モータを出力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30%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に設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3581280"/>
            <a:ext cx="7543800" cy="106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59920" y="32767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周期制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2286000"/>
            <a:ext cx="754380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61360" y="198108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即時入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2514600"/>
            <a:ext cx="121932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90920" y="2514600"/>
            <a:ext cx="6858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67080" y="2514600"/>
            <a:ext cx="121932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91320" y="251460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0920" y="2895480"/>
            <a:ext cx="28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センサから値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を取得し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3778200"/>
            <a:ext cx="121932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90920" y="3778200"/>
            <a:ext cx="83808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0" y="4006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57800" y="3809880"/>
            <a:ext cx="121932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81680" y="380988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771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378468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4013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61840" y="4191120"/>
            <a:ext cx="25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50×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毎に生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36280" y="2362320"/>
            <a:ext cx="4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: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27000" y="3657600"/>
            <a:ext cx="4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: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6400800"/>
            <a:ext cx="380880" cy="3808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58672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03480" y="5791320"/>
            <a:ext cx="76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： コマンド型システムアトム（ルール適用直後に上記処理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03480" y="6324480"/>
            <a:ext cx="77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： 生成型システムアトム（他アトムより優先してルール適用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15200" y="144792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基本方針：定義済みアトムの生成により制御を行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3ABA-50DC-4126-9698-889D6F551E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処理の優先実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4360" y="1295280"/>
            <a:ext cx="8270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イベントは「生成型システムアトムの生成」で表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即時生成 → 通常ルール適用の中断機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ルールの優先適用 → スタックの使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1800360"/>
            <a:ext cx="1143000" cy="12189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ベン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発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1952640"/>
            <a:ext cx="1371600" cy="99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アトム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即時生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81480" y="1952640"/>
            <a:ext cx="1600200" cy="99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ルール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優先適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15880" y="32004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ahoma"/>
              </a:rPr>
              <a:t>この仕組みが必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114440" y="294336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562720" y="294336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19520" y="218124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24280" y="2181240"/>
            <a:ext cx="38124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66880" y="4419720"/>
            <a:ext cx="167652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通常ルー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適用か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76920" y="4419720"/>
            <a:ext cx="17524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ータ構造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未変更か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2920" y="4572000"/>
            <a:ext cx="1295280" cy="6094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中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52680" y="5638680"/>
            <a:ext cx="4572000" cy="4572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ルール適用終了後にイベント処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05320" y="5257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4340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5257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2940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09320" y="4343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43840" y="4343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94720" y="52578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83600" y="52578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4191120"/>
            <a:ext cx="1143000" cy="12189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ベン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発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075B-91F9-4243-AD86-78E3685AB6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サンプルプログラム＆デモ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152280" y="2895480"/>
            <a:ext cx="8382240" cy="3353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dleft_reset, quadleft(timer(10)), analog3(timer(10)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dleft(X) :- int(X), int(Y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 = (((X + 1000100) mod 200) / 2) - 50 | wind(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nd(Y) :- int(Y), int(VL), int(VR), VL = 50 + Y, VR = 50 - Y 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ftmotor(VL), rightmotor(V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og3(X) :- int(X), X &gt; 500 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, analog3(timerkill(10)), quadleft(timerkill(10)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og3(X) :- int(X), X =&lt; 500 |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:- leftmotor(0), rightmotor(0).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90880" y="2666880"/>
            <a:ext cx="151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ind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628640"/>
            <a:ext cx="834552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モムービ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風上に向かって進む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E911-65A2-47E9-A512-E8065000A0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05-03-08T20:34:48Z</dcterms:modified>
  <cp:revision>93</cp:revision>
  <dc:subject/>
  <dc:title>PowerPoint Presentation</dc:title>
</cp:coreProperties>
</file>