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13716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3C4-1C43-4788-BC62-B59E32BD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827064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360" y="7962120"/>
            <a:ext cx="827064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950-F5F0-4D8B-9012-CFA62915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36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264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94A-8E85-41BB-9BD8-4BD3AB8A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0840" y="325728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77320" y="325728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360" y="796212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80840" y="796212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77320" y="796212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DC3-4207-4D8B-9232-B41EF531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5B79-34CF-4BD3-B812-A68A20FE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4360" y="3257280"/>
            <a:ext cx="8270640" cy="90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C7AC-2A70-4EBE-962F-23F61229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827064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4134-E108-4DFF-91EE-B8A78879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17CF-410A-48D7-A1FB-18BB99F1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2E22-CD8D-4640-819D-DD2D3155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58560" y="520200"/>
            <a:ext cx="7721640" cy="80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662B-1CE7-44F5-81CA-B7798F76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C46A-908E-4EB3-9A9B-6BE7050D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360" y="3257280"/>
            <a:ext cx="8270640" cy="90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B90-43D1-4D6D-924B-67FDBBF2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264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9CEF-E2DA-4B66-AD9F-F48A6943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360" y="7962120"/>
            <a:ext cx="827064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A312-6CE7-4434-97DE-89E4AFB2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827064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4360" y="7962120"/>
            <a:ext cx="827064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0A05-2E32-4C3E-A3D1-54E9A9A9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436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264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F732-138A-4438-A416-7D810E70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0840" y="325728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77320" y="325728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4360" y="796212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0840" y="796212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77320" y="796212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06A8-A5C9-4618-ACC4-C9B0A46F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827064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119-3DB6-405F-B74F-DA9AB80C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CA8-F09E-4B53-9752-DA91B4FE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F61-BF2A-4A89-98B8-F916C9C9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58560" y="520200"/>
            <a:ext cx="7721640" cy="80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C19-C704-4EB1-9F4E-9835FCC0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4EA-D100-4973-AC2B-B2E65EFC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264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245-496E-4B78-A043-90F0F98A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7962120"/>
            <a:ext cx="827064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AEA-A935-441F-8D8D-B4C5C1E9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1171440"/>
            <a:ext cx="438120" cy="9493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5480" y="1171440"/>
            <a:ext cx="328680" cy="94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66640" y="2016000"/>
            <a:ext cx="422280" cy="94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36720" y="2016000"/>
            <a:ext cx="368280" cy="94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870200"/>
            <a:ext cx="560520" cy="844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7320" y="955800"/>
            <a:ext cx="31680" cy="210492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2536920"/>
            <a:ext cx="8226360" cy="6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4360" y="3257280"/>
            <a:ext cx="827064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1264932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1264932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1264932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A439-D121-41BE-8DF1-C06C8D10517B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4876920"/>
            <a:ext cx="9009000" cy="2104560"/>
            <a:chOff x="0" y="4876920"/>
            <a:chExt cx="9009000" cy="210456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5092560"/>
              <a:ext cx="711360" cy="948960"/>
              <a:chOff x="290520" y="5092560"/>
              <a:chExt cx="711360" cy="94896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5092560"/>
                <a:ext cx="437400" cy="948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5092560"/>
                <a:ext cx="328320" cy="948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5936760"/>
              <a:ext cx="737640" cy="948960"/>
              <a:chOff x="414360" y="5936760"/>
              <a:chExt cx="737640" cy="94896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5936760"/>
                <a:ext cx="421560" cy="9489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5936760"/>
                <a:ext cx="369000" cy="948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5790960"/>
              <a:ext cx="560520" cy="844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4876920"/>
              <a:ext cx="31680" cy="21045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6520680"/>
              <a:ext cx="8692920" cy="11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12496680"/>
            <a:ext cx="190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12496680"/>
            <a:ext cx="2895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1249668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8C1D-0785-4D39-B673-699B9EFC4A4B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システムアトム一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3428640"/>
            <a:ext cx="4059360" cy="87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アナログ入力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0 ~ analog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ジタル入力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_in4 ~ dig_in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ロータリーエンコー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dleft, quad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ボタン押下状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スク間通信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カメラ画像取得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周期処理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6000" y="3429000"/>
            <a:ext cx="4248000" cy="1043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センサ値即時取得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センサ値の周期取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, timer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マの削除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モータ速力設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tor, rightmo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CD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画面出力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int, put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ジタル出力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_out0 ~ dig_out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_out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ーボ出力値設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o7 ~ servo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エンコーダリセッ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dleft(right)_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スク間通信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カメラ画像消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ture_re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200400"/>
            <a:ext cx="4038480" cy="708660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7086600"/>
              <a:gd name="textAreaBottom" fmla="*/ 6889680 h 7086600"/>
            </a:gdLst>
            <a:ahLst/>
            <a:rect l="textAreaLeft" t="textAreaTop" r="textAreaRight" b="textAreaBottom"/>
            <a:pathLst>
              <a:path w="21600" h="37902">
                <a:moveTo>
                  <a:pt x="3600" y="0"/>
                </a:moveTo>
                <a:arcTo wR="3600" hR="3600" stAng="16200000" swAng="-5400000"/>
                <a:lnTo>
                  <a:pt x="0" y="34302"/>
                </a:lnTo>
                <a:arcTo wR="3600" hR="3600" stAng="10800000" swAng="-5400000"/>
                <a:lnTo>
                  <a:pt x="18000" y="379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3200400"/>
            <a:ext cx="4114800" cy="10210680"/>
          </a:xfrm>
          <a:custGeom>
            <a:avLst/>
            <a:gdLst>
              <a:gd name="textAreaLeft" fmla="*/ 200880 w 4114800"/>
              <a:gd name="textAreaRight" fmla="*/ 3913920 w 4114800"/>
              <a:gd name="textAreaTop" fmla="*/ 200880 h 10210680"/>
              <a:gd name="textAreaBottom" fmla="*/ 10009800 h 10210680"/>
            </a:gdLst>
            <a:ahLst/>
            <a:rect l="textAreaLeft" t="textAreaTop" r="textAreaRight" b="textAreaBottom"/>
            <a:pathLst>
              <a:path w="21600" h="53597">
                <a:moveTo>
                  <a:pt x="3600" y="0"/>
                </a:moveTo>
                <a:arcTo wR="3600" hR="3600" stAng="16200000" swAng="-5400000"/>
                <a:lnTo>
                  <a:pt x="0" y="49997"/>
                </a:lnTo>
                <a:arcTo wR="3600" hR="3600" stAng="10800000" swAng="-5400000"/>
                <a:lnTo>
                  <a:pt x="18000" y="53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45720" y="2819520"/>
            <a:ext cx="912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生成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6120" y="2819520"/>
            <a:ext cx="1400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コマンド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0896480"/>
            <a:ext cx="335268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画素保持用アトム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自由リンク管理　　　　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, $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1049120"/>
            <a:ext cx="4038480" cy="2361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47520" y="10667880"/>
            <a:ext cx="912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その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2AB-0AC8-4486-94F8-89134A7D48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05-03-08T19:17:34Z</dcterms:modified>
  <cp:revision>93</cp:revision>
  <dc:subject/>
  <dc:title>PowerPoint Presentation</dc:title>
</cp:coreProperties>
</file>