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2C53-4F0A-4A0A-A501-D39347B75F7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れの前に、全体の実行の流れのスライドが欲しい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で走らせたランタイムに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プログラムをコンパイルしたもの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シリアル経由で送っ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その入力データの生成は図のような流れで行な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基本的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処理系のコンパイル出力を利用し、それ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送れる形式に再変換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今までの処理系とどういう関係にある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何行書いた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制御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かいたらどう良かった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なくせるので、本質的にはリアルタイム向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問題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れ以外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可能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やるには複雑なデータ構造が必要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o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毎、膜毎のアトム管理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本処理系のようなアトム生成による方法では、センサ情報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）＋付加情報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）で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少なくと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がルールに含まれることが多いため､必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使われ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使わない別方式を考えるか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実行時間を予測する方法が必要であ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EBC-60C3-40F7-BD1A-A7A8802E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811-2141-4D96-8645-218F009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1BE-272F-4AF9-9CDA-1937CBC9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CB6-5CE4-4127-ADF4-BACCBB1D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F59F-6780-47E5-B4BF-D7A09844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8BAF-F8F1-4637-90C6-4551FEDD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5DD3-53D3-4C81-8A71-D3BA8746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E219-44E0-4647-AAA9-FD6396FF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836D-D5E6-4312-AABB-125453B1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6280-D2F6-4AFA-B5C6-D2A48DCF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67A4-19A0-4436-A1D9-861F53FF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0E3-A1AC-43C4-AB07-7A057980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5496-FA92-425A-9FD1-FF200320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D318-8C7F-485F-A38C-34193EAB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69D1-0281-4172-9CDD-EA03D645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530-A5C7-40C0-A7E9-88B933C4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F4DD-987F-41DD-BA73-5B0E631D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1CE-B349-472E-83F0-30F7142A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681-1DE1-4F48-8CD9-FE3997E3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153-2F03-447F-B7CB-03848550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DC6-FD0B-4C34-9DFC-849DBC8F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C2E-3528-4BC9-A19A-4C4B9F1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D54-7242-49A1-8627-84B4D36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805-89A9-4D55-85C5-3C62839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585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5480" y="585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6640" y="1008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6720" y="1008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934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20" y="477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0566-FA52-4EB2-BBB5-E5CA2FD1262E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918E-26F0-4327-86BF-67F524B178D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br>
              <a:rPr sz="4400"/>
            </a:b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系の設計と実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004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年度修士論文発表資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005/2/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情報・ネットワーク専攻　上田研究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360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147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矢島伸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7D8D-6619-40CC-B4A0-740BC74AA6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の優先実行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イベントは「生成型システムアトムの生成」で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即時生成 → 通常ルール適用の中断機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2133720"/>
            <a:ext cx="1143000" cy="12189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228600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228600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優先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5880" y="3581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この仕組みが必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114440" y="3276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562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146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2514600"/>
            <a:ext cx="38124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4952880"/>
            <a:ext cx="16765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常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適用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4952880"/>
            <a:ext cx="17524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未変更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5105520"/>
            <a:ext cx="129528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中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6172200"/>
            <a:ext cx="45720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適用終了後にイベント処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5791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5791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9320" y="4876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43840" y="4876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94720" y="579132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83600" y="579132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4724280"/>
            <a:ext cx="1143000" cy="12193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31A-5212-49A3-AD44-20B21EC46E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の優先実行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71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ルールの優先適用 → スタックの使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2209680"/>
            <a:ext cx="2895840" cy="350532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505320"/>
              <a:gd name="textAreaBottom" fmla="*/ 3364200 h 3505320"/>
            </a:gdLst>
            <a:ahLst/>
            <a:rect l="textAreaLeft" t="textAreaTop" r="textAreaRight" b="textAreaBottom"/>
            <a:pathLst>
              <a:path w="21600" h="26146">
                <a:moveTo>
                  <a:pt x="3600" y="0"/>
                </a:moveTo>
                <a:arcTo wR="3600" hR="3600" stAng="16200000" swAng="-5400000"/>
                <a:lnTo>
                  <a:pt x="0" y="22546"/>
                </a:lnTo>
                <a:arcTo wR="3600" hR="3600" stAng="10800000" swAng="-5400000"/>
                <a:lnTo>
                  <a:pt x="18000" y="2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5029200"/>
            <a:ext cx="24386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待ちスタ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4267080"/>
            <a:ext cx="24386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スタ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133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02040" y="4648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3276720"/>
            <a:ext cx="190512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2362320"/>
            <a:ext cx="91440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38280" y="3048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38080" y="281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2971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49400" y="3809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594360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3581280"/>
            <a:ext cx="1066680" cy="20574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057400"/>
              <a:gd name="textAreaBottom" fmla="*/ 2005560 h 2057400"/>
            </a:gdLst>
            <a:ahLst/>
            <a:rect l="textAreaLeft" t="textAreaTop" r="textAreaRight" b="textAreaBottom"/>
            <a:pathLst>
              <a:path w="21600" h="41655">
                <a:moveTo>
                  <a:pt x="3600" y="0"/>
                </a:moveTo>
                <a:arcTo wR="3600" hR="3600" stAng="16200000" swAng="-5400000"/>
                <a:lnTo>
                  <a:pt x="0" y="38055"/>
                </a:lnTo>
                <a:arcTo wR="3600" hR="3600" stAng="10800000" swAng="-5400000"/>
                <a:lnTo>
                  <a:pt x="18000" y="4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タスク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905120" y="5333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9016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4952880"/>
            <a:ext cx="914400" cy="533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2209680"/>
            <a:ext cx="35053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されたアト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スタックにつま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52880" y="3429000"/>
            <a:ext cx="35816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そのアトムを含む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リストとして保持）を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29400" y="31240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3962520" cy="1600200"/>
          </a:xfrm>
          <a:prstGeom prst="wedgeRoundRectCallout">
            <a:avLst>
              <a:gd name="adj1" fmla="val -69152"/>
              <a:gd name="adj2" fmla="val -24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タスクやタイマから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生成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待ちスタック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自タスクで処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EA8-EBC7-4B05-AD79-299359A2A2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力データの生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3911760"/>
            <a:ext cx="12189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292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295280" y="3377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44449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6708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8080" y="52833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毎に分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51360" y="5664240"/>
            <a:ext cx="43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mntal.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d | trans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コードに変換し、それを改変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形式に落とす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処理系利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33782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3911760"/>
            <a:ext cx="106704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19920" y="42926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19920" y="444456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320" y="2279520"/>
            <a:ext cx="1676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42000" y="18986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ト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情報ファイ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250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24280" y="2279520"/>
            <a:ext cx="12956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50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62520" y="250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4800" y="250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75360" y="1130400"/>
            <a:ext cx="2838240" cy="2288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m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一意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振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区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出力解釈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&gt;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名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240" y="151776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登録済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562360" y="1670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48720" y="433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12520" y="50990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バイナリに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242920" y="3781440"/>
            <a:ext cx="74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53280" y="3651120"/>
            <a:ext cx="990720" cy="1447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3DA-565A-47BC-91EA-60B3E012BF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プログラム＆デ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2895480"/>
            <a:ext cx="838224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_reset, quadleft(timer(10)), analog3(timer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(X) :- int(X), int(Y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= (((X + 1000100) mod 200) / 2) - 50 | wind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(Y) :- int(Y), int(VL), int(VR), VL = 50 + Y, VR = 50 - Y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ftmotor(VL), rightmotor(V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&gt; 500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, analog3(timerkill(10)), quadleft(timerkill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=&lt; 500 |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:- leftmotor(0), rightmotor(0).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90880" y="2666880"/>
            <a:ext cx="151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nd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345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モムービ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風上に向かって進む車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30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AE3-7B7A-468D-8D8F-CAC702F70D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デモ：風上に向かって走る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C4C-F190-4BD2-9260-4C0C9FFCD6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まと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6108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本研究の成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よる周期タスクや制御の記述方式の提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マ、センサ入力、カメラ画像、モータ出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周期タスク並列動作と優先処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制御できる処理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実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変換部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言語、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処理系の出力するコードを再解釈、変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ランタイム部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静的プログラム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: 5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モリ効率のよいデータ構造保持機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F9D-90AB-4D4B-B84A-11AC0EDC79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今後の予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マ以外のイベントの補足・処理機能の追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ボタンが押された、メッセージを受信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より高度な優先度とデッドラインの指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一連処理の優先実行は、システムアトムのユーザ定義機能を実装すれば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言語制限や制御表現の見直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膜の有効性、アトム生成以外の制御表現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この研究を元に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と制御やリアルタイム処理との関係について考えていきた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872-F697-4690-B9BF-E71CD3DCF5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リアルタイムとの関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459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リアルタイム＝イベントから予定時間内に決められた処理が行え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システムアトムのユーザ定義を含めれば）一連のルール適用の優先処理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リアルタイム処理を行うために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より複雑な優先度・デッドラインの設定と、スケジューリング機構、ルールの適用時間の計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命令の実行時間予測、もしく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用いないルール適用方式を考え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数々の問題の中で、優先処理の一方式を提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054-A1A4-4581-B465-BABA315222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アトム一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059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生成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0 ~ analog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in4 ~ dig_in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, quad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in, $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24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コマンド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, timer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k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, rightmo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int, put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0 ~ dig_out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7 ~ servo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(right)_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_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59B-74DC-43AF-B432-AB7684F91A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デモ２：赤い物に向かって進む車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38080" y="131436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A36-5EB4-4E92-B52A-15FE587923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5029200"/>
            <a:ext cx="80010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プログラミング言語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561560" y="1692360"/>
            <a:ext cx="3716280" cy="825480"/>
            <a:chOff x="4561560" y="1692360"/>
            <a:chExt cx="3716280" cy="825480"/>
          </a:xfrm>
        </p:grpSpPr>
        <p:sp>
          <p:nvSpPr>
            <p:cNvPr id="111" name=""/>
            <p:cNvSpPr/>
            <p:nvPr/>
          </p:nvSpPr>
          <p:spPr>
            <a:xfrm>
              <a:off x="4561560" y="1692360"/>
              <a:ext cx="371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アトム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と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リンク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　からな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グラフ構造が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膜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　 で階層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95600" y="1768680"/>
              <a:ext cx="30456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667200" y="1768680"/>
              <a:ext cx="456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4920" y="2149560"/>
              <a:ext cx="576000" cy="36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11200" y="2666880"/>
            <a:ext cx="2680200" cy="1191240"/>
            <a:chOff x="5011200" y="2666880"/>
            <a:chExt cx="2680200" cy="1191240"/>
          </a:xfrm>
        </p:grpSpPr>
        <p:sp>
          <p:nvSpPr>
            <p:cNvPr id="116" name=""/>
            <p:cNvSpPr/>
            <p:nvPr/>
          </p:nvSpPr>
          <p:spPr>
            <a:xfrm>
              <a:off x="5011200" y="2666880"/>
              <a:ext cx="268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ルール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膜内の、</a:t>
              </a:r>
              <a:r>
                <a:rPr b="0" lang="ja-JP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左辺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と同じ構造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</a:t>
              </a:r>
              <a:r>
                <a:rPr b="0" lang="ja-JP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右辺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の形に書き換える規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6360" y="2743200"/>
              <a:ext cx="15242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左辺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:-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右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4920" y="1600200"/>
            <a:ext cx="3962160" cy="2408400"/>
            <a:chOff x="304920" y="1600200"/>
            <a:chExt cx="3962160" cy="2408400"/>
          </a:xfrm>
        </p:grpSpPr>
        <p:sp>
          <p:nvSpPr>
            <p:cNvPr id="119" name=""/>
            <p:cNvSpPr/>
            <p:nvPr/>
          </p:nvSpPr>
          <p:spPr>
            <a:xfrm>
              <a:off x="304920" y="1600200"/>
              <a:ext cx="3962160" cy="240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1360" y="1736640"/>
              <a:ext cx="2049120" cy="1298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58880" y="1736640"/>
              <a:ext cx="1502640" cy="1981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24640" y="1896120"/>
              <a:ext cx="932040" cy="728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360" y="3240000"/>
              <a:ext cx="1776240" cy="614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1040" y="194148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7880" y="1873440"/>
              <a:ext cx="272880" cy="272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1040" y="2556360"/>
              <a:ext cx="1161360" cy="34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9440" y="262476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124280" y="272484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2720" y="262476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200" y="272484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7320" y="21466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7360" y="21466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5680" y="276156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44360" y="221508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96640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124640" y="2009880"/>
              <a:ext cx="27324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217600" y="2283120"/>
              <a:ext cx="8197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0760" y="2078280"/>
              <a:ext cx="3416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7600" y="2419920"/>
              <a:ext cx="54612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900160" y="2419920"/>
              <a:ext cx="20484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490120" y="2966400"/>
              <a:ext cx="20484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0520" y="3171600"/>
              <a:ext cx="819720" cy="34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8920" y="324000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47360" y="324000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10200" y="276156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52200" y="276156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4040" y="337644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54040" y="3240000"/>
              <a:ext cx="6840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5920" y="3308400"/>
              <a:ext cx="682920" cy="477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4320" y="344484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07560" y="3413520"/>
              <a:ext cx="272880" cy="273240"/>
            </a:xfrm>
            <a:custGeom>
              <a:avLst/>
              <a:gdLst>
                <a:gd name="textAreaLeft" fmla="*/ 13320 w 272880"/>
                <a:gd name="textAreaRight" fmla="*/ 259560 w 272880"/>
                <a:gd name="textAreaTop" fmla="*/ 13320 h 273240"/>
                <a:gd name="textAreaBottom" fmla="*/ 259920 h 27324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9760" y="3308400"/>
              <a:ext cx="682920" cy="477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8160" y="344484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1040" y="3413520"/>
              <a:ext cx="273240" cy="273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97880" y="22150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34320" y="214668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49200" y="2488320"/>
              <a:ext cx="20484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585800" y="444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523880" y="5791320"/>
            <a:ext cx="5410080" cy="609120"/>
            <a:chOff x="1523880" y="5791320"/>
            <a:chExt cx="5410080" cy="609120"/>
          </a:xfrm>
        </p:grpSpPr>
        <p:sp>
          <p:nvSpPr>
            <p:cNvPr id="160" name=""/>
            <p:cNvSpPr/>
            <p:nvPr/>
          </p:nvSpPr>
          <p:spPr>
            <a:xfrm>
              <a:off x="3327120" y="5791320"/>
              <a:ext cx="1717200" cy="609120"/>
            </a:xfrm>
            <a:prstGeom prst="leftRightArrow">
              <a:avLst>
                <a:gd name="adj1" fmla="val 70241"/>
                <a:gd name="adj2" fmla="val 42522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計算環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3880" y="5791320"/>
              <a:ext cx="180324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ahoma"/>
                </a:rPr>
                <a:t>組込・分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44680" y="5791320"/>
              <a:ext cx="188928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ahoma"/>
                </a:rPr>
                <a:t>超広域分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066560" y="5181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多様な計算環境を統一的に扱う（スケーラブル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7600" y="40622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 u="sng">
                <a:solidFill>
                  <a:srgbClr val="333399"/>
                </a:solidFill>
                <a:uFillTx/>
                <a:latin typeface="Tahoma"/>
              </a:rPr>
              <a:t>階層グラフ構造の書き換え＝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4724280"/>
            <a:ext cx="129564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19A-3C73-43AE-8063-D0FBEC06C3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91120" y="5562720"/>
            <a:ext cx="3809880" cy="1143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と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研究の現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1523880"/>
            <a:ext cx="2819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の型づ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2133720"/>
            <a:ext cx="2819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作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657600"/>
            <a:ext cx="4191120" cy="1371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の分散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・計算ノードの膜による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・ルールによる通信の記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61960" y="2057400"/>
            <a:ext cx="205740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05740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19720" y="175212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057400"/>
            <a:ext cx="213336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371600"/>
            <a:ext cx="26672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05320" y="28954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大規模への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57200" y="28954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小規模への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7360" y="3581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ff0000"/>
                </a:solidFill>
                <a:latin typeface="Tahoma"/>
              </a:rPr>
              <a:t>研究されていない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114800"/>
            <a:ext cx="914400" cy="53352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876920"/>
            <a:ext cx="4648320" cy="1752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組込み制御のため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系の実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6483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研究テー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469-48C8-4FAC-A294-F805B42188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2640" y="3809520"/>
            <a:ext cx="827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れらの問題の解決方法の模索、方式提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組み込み分野への適応性の解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今後の議論の礎となる実働環境の提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905120"/>
            <a:ext cx="4495680" cy="1828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利用可能なメモリが少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制御対象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イベントへの即時対応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60020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組み込み機器の特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5146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133720"/>
            <a:ext cx="3048120" cy="14475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れらを考慮し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を実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114800"/>
            <a:ext cx="68580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5638680"/>
            <a:ext cx="6705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本研究では、組み込み機器とし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ロボット制御システ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5CA-98F5-44B9-968F-C716B6EBC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ロボット制御システム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yeb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大容量のメモ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様々な入出力インターフェー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ライブラリによる制御記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実装に適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MK3-top-sm" descr=""/>
          <p:cNvPicPr/>
          <p:nvPr/>
        </p:nvPicPr>
        <p:blipFill>
          <a:blip r:embed="rId1"/>
          <a:stretch/>
        </p:blipFill>
        <p:spPr>
          <a:xfrm>
            <a:off x="7302600" y="1371600"/>
            <a:ext cx="1765080" cy="2362320"/>
          </a:xfrm>
          <a:prstGeom prst="rect">
            <a:avLst/>
          </a:prstGeom>
          <a:ln w="0">
            <a:noFill/>
          </a:ln>
        </p:spPr>
      </p:pic>
      <p:pic>
        <p:nvPicPr>
          <p:cNvPr id="193" name="family-sm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1805040" cy="2362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86400" y="3886200"/>
            <a:ext cx="3505320" cy="2819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2KB ROM 1MB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bitCPU (68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各種コントロー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, motor, sen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無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シリアル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カメラ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2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, 60*8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343400"/>
            <a:ext cx="1066680" cy="838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ソー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343400"/>
            <a:ext cx="914400" cy="838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867280"/>
            <a:ext cx="13716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バイナ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18148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80720" y="5181480"/>
            <a:ext cx="304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43080" y="5257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4038480"/>
            <a:ext cx="2743200" cy="281952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819520"/>
              <a:gd name="textAreaBottom" fmla="*/ 2685600 h 2819520"/>
            </a:gdLst>
            <a:ahLst/>
            <a:rect l="textAreaLeft" t="textAreaTop" r="textAreaRight" b="textAreaBottom"/>
            <a:pathLst>
              <a:path w="21600" h="22201">
                <a:moveTo>
                  <a:pt x="3600" y="0"/>
                </a:moveTo>
                <a:arcTo wR="3600" hR="3600" stAng="16200000" swAng="-5400000"/>
                <a:lnTo>
                  <a:pt x="0" y="18601"/>
                </a:lnTo>
                <a:arcTo wR="3600" hR="3600" stAng="10800000" swAng="-5400000"/>
                <a:lnTo>
                  <a:pt x="18000" y="22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46880" y="375768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5715000"/>
            <a:ext cx="1143000" cy="914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6248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21360" y="5715000"/>
            <a:ext cx="1415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E60-466A-450E-A0DC-0B2C76E1BC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MNtal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の設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省メモリデータ構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制御記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の優先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E278-1297-4D28-9306-684586E6B7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言語の制限・記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743200" y="152352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膜を１個以上定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中にかけるも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トム、リンク、膜によるデータ構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ロセス文脈は引数なし、線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整数はガードで扱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膜直下にのみルール記述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ルール適用処理の簡素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各タスクのルール適用を平等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並列タスクの擬似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209680"/>
            <a:ext cx="2057400" cy="28958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95840"/>
              <a:gd name="textAreaBottom" fmla="*/ 2795400 h 2895840"/>
            </a:gdLst>
            <a:ahLst/>
            <a:rect l="textAreaLeft" t="textAreaTop" r="textAreaRight" b="textAreaBottom"/>
            <a:pathLst>
              <a:path w="21600" h="30401">
                <a:moveTo>
                  <a:pt x="3600" y="0"/>
                </a:moveTo>
                <a:arcTo wR="3600" hR="3600" stAng="16200000" swAng="-5400000"/>
                <a:lnTo>
                  <a:pt x="0" y="26801"/>
                </a:lnTo>
                <a:arcTo wR="3600" hR="3600" stAng="10800000" swAng="-5400000"/>
                <a:lnTo>
                  <a:pt x="18000" y="30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419720"/>
            <a:ext cx="1600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2438280"/>
            <a:ext cx="1143000" cy="1219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9320"/>
              <a:gd name="textAreaBottom" fmla="*/ 1163520 h 1219320"/>
            </a:gdLst>
            <a:ahLst/>
            <a:rect l="textAreaLeft" t="textAreaTop" r="textAreaRight" b="textAreaBottom"/>
            <a:pathLst>
              <a:path w="21600" h="23042">
                <a:moveTo>
                  <a:pt x="3600" y="0"/>
                </a:moveTo>
                <a:arcTo wR="3600" hR="3600" stAng="16200000" swAng="-5400000"/>
                <a:lnTo>
                  <a:pt x="0" y="19442"/>
                </a:lnTo>
                <a:arcTo wR="3600" hR="3600" stAng="10800000" swAng="-5400000"/>
                <a:lnTo>
                  <a:pt x="18000" y="23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38098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809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240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666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14300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4290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2971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3320" y="5181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スク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956-458E-43AD-A692-406AFEFDF1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省メモリデータ構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3200" y="1447920"/>
            <a:ext cx="8650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）アトム、リンク、膜、ルールはオブジェク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ビットの有効活用により、アトムを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ity+1 word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必要なメモリ：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6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te -&gt; 8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94040" y="3633840"/>
            <a:ext cx="6162480" cy="3074400"/>
            <a:chOff x="2894040" y="3633840"/>
            <a:chExt cx="6162480" cy="3074400"/>
          </a:xfrm>
        </p:grpSpPr>
        <p:sp>
          <p:nvSpPr>
            <p:cNvPr id="225" name=""/>
            <p:cNvSpPr/>
            <p:nvPr/>
          </p:nvSpPr>
          <p:spPr>
            <a:xfrm>
              <a:off x="3857400" y="3816360"/>
              <a:ext cx="282744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57760" y="3999240"/>
              <a:ext cx="179856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tom_id: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57400" y="4486320"/>
              <a:ext cx="257040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94040" y="497376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a(30bit i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4040" y="564372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r (to next freen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4040" y="3999240"/>
              <a:ext cx="963360" cy="48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m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6320" y="3999240"/>
              <a:ext cx="12852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7800" y="564372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7400" y="3999240"/>
              <a:ext cx="90036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ity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27800" y="448632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4040" y="4486320"/>
              <a:ext cx="9633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os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27800" y="497376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94040" y="619128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r (to at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27800" y="619128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69240" y="405936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アトム情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4120" y="454680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リンク（リンク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82200" y="5034240"/>
              <a:ext cx="187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リンク（整数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0400" y="5704200"/>
              <a:ext cx="22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空きノード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1280" y="62485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アトムへの参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57760" y="3633840"/>
              <a:ext cx="109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52280" y="4419720"/>
            <a:ext cx="2438640" cy="1143000"/>
          </a:xfrm>
          <a:prstGeom prst="wedgeRoundRectCallout">
            <a:avLst>
              <a:gd name="adj1" fmla="val 62564"/>
              <a:gd name="adj2" fmla="val 19861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整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領域に格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ポインタタグ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5715000"/>
            <a:ext cx="2438640" cy="1066680"/>
          </a:xfrm>
          <a:prstGeom prst="wedgeRoundRectCallout">
            <a:avLst>
              <a:gd name="adj1" fmla="val 62435"/>
              <a:gd name="adj2" fmla="val -29912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空きノード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リスト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判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3733920"/>
            <a:ext cx="2438640" cy="457200"/>
          </a:xfrm>
          <a:prstGeom prst="wedgeRoundRectCallout">
            <a:avLst>
              <a:gd name="adj1" fmla="val 61328"/>
              <a:gd name="adj2" fmla="val 136458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ドレスは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3200400"/>
            <a:ext cx="5410440" cy="457200"/>
          </a:xfrm>
          <a:prstGeom prst="wedgeRoundRectCallout">
            <a:avLst>
              <a:gd name="adj1" fmla="val 6046"/>
              <a:gd name="adj2" fmla="val 122569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所属膜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格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200400"/>
            <a:ext cx="2971800" cy="457200"/>
          </a:xfrm>
          <a:prstGeom prst="wedgeRoundRectCallout">
            <a:avLst>
              <a:gd name="adj1" fmla="val -37018"/>
              <a:gd name="adj2" fmla="val 122222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名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514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2514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9EA-2143-4489-9942-BCCF256F91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4876920"/>
            <a:ext cx="75438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制御記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5073480"/>
            <a:ext cx="14479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507348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5302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88560" y="492120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4572000"/>
            <a:ext cx="140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出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5029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左モータを出力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581280"/>
            <a:ext cx="754380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59920" y="32767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周期制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286000"/>
            <a:ext cx="75438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61360" y="198108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入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25146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2514600"/>
            <a:ext cx="6858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5146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25146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0920" y="289548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センサから値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取得し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7782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3778200"/>
            <a:ext cx="83808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4006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380988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8098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37846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4013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61840" y="419112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50×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毎に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36280" y="236232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27000" y="365760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4008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58672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03480" y="579132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コマンド型システムアトム（ルール適用直後に上記処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03480" y="6324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生成型システムアトム（他アトムより優先してルール適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15200" y="14479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基本方針：定義済みアトムの生成により制御を行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98C-379D-4BFF-8C8F-45388FA6EE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5-02-11T06:54:35Z</dcterms:modified>
  <cp:revision>83</cp:revision>
  <dc:subject/>
  <dc:title>PowerPoint Presentation</dc:title>
</cp:coreProperties>
</file>